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png" ContentType="image/png"/>
  <Override PartName="/ppt/media/DRIVEBY.WAV" ContentType="audio/x-wav"/>
  <Override PartName="/ppt/media/image3.png" ContentType="image/png"/>
  <Override PartName="/ppt/media/cheer.wav" ContentType="audio/x-wav"/>
  <Override PartName="/ppt/media/ifeelgood.wav" ContentType="audio/x-wav"/>
  <Override PartName="/ppt/media/boyohboy.wav" ContentType="audio/x-wav"/>
  <Override PartName="/ppt/media/laugh-herman.wav" ContentType="audio/x-wav"/>
  <Override PartName="/ppt/media/image6.png" ContentType="image/png"/>
  <Override PartName="/ppt/media/LASER.WAV" ContentType="audio/x-wav"/>
  <Override PartName="/ppt/media/whistle.wav" ContentType="audio/x-wav"/>
  <Override PartName="/ppt/media/image5.png" ContentType="image/png"/>
  <Override PartName="/ppt/media/justas-thought.wav" ContentType="audio/x-wav"/>
  <Override PartName="/ppt/media/image7.png" ContentType="image/png"/>
  <Override PartName="/ppt/media/image1.png" ContentType="image/png"/>
  <Override PartName="/ppt/media/thnkdoit.wav" ContentType="audio/x-wav"/>
  <Override PartName="/ppt/media/WHOOSH.WAV" ContentType="audio/x-wav"/>
  <Override PartName="/ppt/media/cool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3EF5-48A7-4A57-B8B9-ED3F433F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AC2-ADC3-4C3E-B891-5A2D7A5B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BF7-FD4A-4599-B677-D8788794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8814-66D4-4658-9A07-71A72E4F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B06F-C9C3-44BF-9CBD-5A643AF4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5A97-A582-4874-8540-9B371C8F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D4F-756F-4A86-AC8B-C2BB9217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76B-84E3-4C10-BDF6-2C66AF7D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2EB-FF39-44DC-83AB-A6D2BB50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31C-8EDC-4D3A-9A54-124284EA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0826-BF27-4071-86D5-0E10B947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5AF-9FE1-4E74-AA26-86822BCF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06CE-884A-4D0B-BDD2-340B7292F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ifeelgood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ee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ustas-thought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audio" Target="../media/thnkdoit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ool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istl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LASER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laugh-herman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boyohboy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362320" y="2895480"/>
            <a:ext cx="441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ncy Langs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9"/>
          <p:cNvSpPr txBox="1"/>
          <p:nvPr/>
        </p:nvSpPr>
        <p:spPr>
          <a:xfrm>
            <a:off x="2054160" y="533520"/>
            <a:ext cx="5038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UN WITH ADJECTIVES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1" descr="barney20"/>
          <p:cNvPicPr/>
          <p:nvPr/>
        </p:nvPicPr>
        <p:blipFill>
          <a:blip r:embed="rId1"/>
          <a:stretch/>
        </p:blipFill>
        <p:spPr>
          <a:xfrm>
            <a:off x="3429000" y="380880"/>
            <a:ext cx="2514600" cy="2743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2"/>
          <p:cNvSpPr/>
          <p:nvPr/>
        </p:nvSpPr>
        <p:spPr>
          <a:xfrm>
            <a:off x="0" y="44956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arney is a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3809880" y="4495680"/>
            <a:ext cx="244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app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6095880" y="449568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inosau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ifeelgoo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1214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onderful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3562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Give yourself a hand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e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457200" y="99072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n adjective tells more about a noun.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ustas-though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362320" y="45720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ame the nou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strawberry"/>
          <p:cNvPicPr/>
          <p:nvPr/>
        </p:nvPicPr>
        <p:blipFill>
          <a:blip r:embed="rId1"/>
          <a:stretch/>
        </p:blipFill>
        <p:spPr>
          <a:xfrm>
            <a:off x="3505320" y="1828800"/>
            <a:ext cx="2590560" cy="28954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3581280" y="51814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awber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nkdoi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75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9"/>
          <p:cNvSpPr/>
          <p:nvPr/>
        </p:nvSpPr>
        <p:spPr>
          <a:xfrm>
            <a:off x="762120" y="51814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 ate 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666880" y="518148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elicio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486400" y="51814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trawberr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708660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0" descr="strawberry"/>
          <p:cNvPicPr/>
          <p:nvPr/>
        </p:nvPicPr>
        <p:blipFill>
          <a:blip r:embed="rId1"/>
          <a:stretch/>
        </p:blipFill>
        <p:spPr>
          <a:xfrm>
            <a:off x="3352680" y="1752480"/>
            <a:ext cx="2362320" cy="2667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1"/>
          <p:cNvSpPr/>
          <p:nvPr/>
        </p:nvSpPr>
        <p:spPr>
          <a:xfrm>
            <a:off x="0" y="590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ell more about the nou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o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447920" y="419112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 have 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886200" y="41911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layfu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095880" y="41148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upp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708660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puppylil"/>
          <p:cNvPicPr/>
          <p:nvPr/>
        </p:nvPicPr>
        <p:blipFill>
          <a:blip r:embed="rId1"/>
          <a:stretch/>
        </p:blipFill>
        <p:spPr>
          <a:xfrm>
            <a:off x="3427560" y="74916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is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3520" y="38098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 bought 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apple"/>
          <p:cNvPicPr/>
          <p:nvPr/>
        </p:nvPicPr>
        <p:blipFill>
          <a:blip r:embed="rId1"/>
          <a:stretch/>
        </p:blipFill>
        <p:spPr>
          <a:xfrm>
            <a:off x="2895480" y="838080"/>
            <a:ext cx="2971800" cy="2676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4572000" y="38098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172200" y="38098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pple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clown06"/>
          <p:cNvPicPr/>
          <p:nvPr/>
        </p:nvPicPr>
        <p:blipFill>
          <a:blip r:embed="rId1"/>
          <a:stretch/>
        </p:blipFill>
        <p:spPr>
          <a:xfrm>
            <a:off x="3124080" y="380880"/>
            <a:ext cx="3124440" cy="3429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914400" y="43434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    saw   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343400" y="43434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un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6553080" y="43434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ow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ugh-her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ermaid"/>
          <p:cNvPicPr/>
          <p:nvPr/>
        </p:nvPicPr>
        <p:blipFill>
          <a:blip r:embed="rId1"/>
          <a:stretch/>
        </p:blipFill>
        <p:spPr>
          <a:xfrm>
            <a:off x="3429000" y="3049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28600" y="3871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he is a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971800" y="388620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autifu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019920" y="37339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ermaid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yohbo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bulldog"/>
          <p:cNvPicPr/>
          <p:nvPr/>
        </p:nvPicPr>
        <p:blipFill>
          <a:blip r:embed="rId1"/>
          <a:stretch/>
        </p:blipFill>
        <p:spPr>
          <a:xfrm>
            <a:off x="2971800" y="380880"/>
            <a:ext cx="3429000" cy="2667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670320" y="4095720"/>
            <a:ext cx="439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rutus  is  a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105520" y="403848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g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7315200" y="403848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o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2T02:00:17Z</dcterms:created>
  <dc:creator>Nancy Langston</dc:creator>
  <dc:description/>
  <dc:language>en-US</dc:language>
  <cp:lastModifiedBy>teacher</cp:lastModifiedBy>
  <dcterms:modified xsi:type="dcterms:W3CDTF">2011-01-03T23:33:43Z</dcterms:modified>
  <cp:revision>6</cp:revision>
  <dc:subject/>
  <dc:title>No Slide Title</dc:title>
</cp:coreProperties>
</file>